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3076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F6AF-F3CA-431A-8ED1-E205549479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A85A-C663-43AB-BA8F-2C914082D75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422D-058C-4841-8E56-3C6B9312071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01440" y="4722480"/>
            <a:ext cx="495756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30760" y="9445680"/>
            <a:ext cx="29304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427A-5AA9-44E5-BCFB-DB3E6029EDF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E607-9D80-42ED-8F26-B9F14988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A28-FF31-4813-9D3E-1EFFB4BE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5B85-E235-48D6-934B-C17A2403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8823-CDF7-44A2-A205-E2714201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EEAA-25A5-408B-BCE5-EDF38D5C7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9267-9296-4FDD-9022-EAF0D4B12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B0BF-3772-4AAB-A4FF-3C3838B3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C4D7-1986-47BE-A4F8-48193FD4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BEC3-3572-45B4-A4E6-415B670D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A91D-DF21-477E-B3EB-940C19C4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E526C-018D-4183-9413-209520C7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D8D4-56F8-42EC-A0BC-EAF4E5AB8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66963-6B3B-49CE-A91C-001F3C00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4F48-1BAF-4268-A5EE-F6252BCE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4E12-664D-430C-B51E-0668FA20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20CA-0EB2-40C0-BD5A-B51C24985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79E3-4E23-4E31-9FAA-DA72BCC3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11E1-EA33-4146-B6C8-DDE48331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8A64-F41B-4E65-B66D-9AF2F640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C7A0-9560-4D2E-9D02-E26BF4ED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EDD-CF2B-403B-99D8-53BF05E9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8399-FBAF-40DF-85BC-326BE346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F97E-8AE3-4F5A-AF2E-C51D7312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129D-143C-40CB-867C-4F024C68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39EF-60F9-4A03-B1EE-E36EFB4A46D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26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2" name="Freeform 1027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Freeform 1028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Freeform 1029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Freeform 1030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DE766-C6FA-41E5-BAAC-3FB06F71D30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cloud.mail.ru/public/f56g/LUR9p9GkE" TargetMode="Externa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consultantplus://offline/ref=C140C796D2018666F8BDE2701FEE5B8251313EB34373FCED66F01FBD93C4FCC81FAF9D159FD0548AAFEF0C264B433C909A764C6992FACEAF24O2G" TargetMode="Externa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s://cloud.mail.ru/public/MApy/T9aFHK92s" TargetMode="External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cloud.mail.ru/public/uTkQ/63GRch9Sf" TargetMode="External"/><Relationship Id="rId2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s://cloud.mail.ru/public/y8mu/t5dh3RbBL" TargetMode="External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s://cloud.mail.ru/public/Cswi/NJ3PWP5Wv" TargetMode="External"/><Relationship Id="rId2" Type="http://schemas.openxmlformats.org/officeDocument/2006/relationships/hyperlink" Target="https://cloud.mail.ru/public/y8mu/t5dh3RbBL" TargetMode="External"/><Relationship Id="rId3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s://cloud.mail.ru/public/MyHQ/KokjGY6Si" TargetMode="External"/><Relationship Id="rId2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hyperlink" Target="https://cloud.mail.ru/public/ve8v/xsMXgvNxp" TargetMode="External"/><Relationship Id="rId2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33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lang="ru-RU" sz="8000" spc="-1" strike="noStrike">
                <a:solidFill>
                  <a:srgbClr val="ffff00"/>
                </a:solidFill>
                <a:latin typeface="Arial"/>
                <a:ea typeface="Calibri"/>
              </a:rPr>
              <a:t>  </a:t>
            </a:r>
            <a:br>
              <a:rPr sz="8000"/>
            </a:br>
            <a:r>
              <a:rPr b="1" lang="ru-RU" sz="6000" spc="-1" strike="noStrike">
                <a:solidFill>
                  <a:srgbClr val="ffff00"/>
                </a:solidFill>
                <a:latin typeface="Arial"/>
                <a:ea typeface="Calibri"/>
              </a:rPr>
              <a:t> </a:t>
            </a:r>
            <a:endParaRPr b="0" lang="en-US" sz="6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43000" y="6230880"/>
            <a:ext cx="693432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4" descr="005"/>
          <p:cNvPicPr/>
          <p:nvPr/>
        </p:nvPicPr>
        <p:blipFill>
          <a:blip r:embed="rId1"/>
          <a:stretch/>
        </p:blipFill>
        <p:spPr>
          <a:xfrm>
            <a:off x="4067280" y="223920"/>
            <a:ext cx="823680" cy="11890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0" y="1484280"/>
            <a:ext cx="9144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676440" y="4076640"/>
            <a:ext cx="84294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ФСОЮЗ РАБОТНИК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ОДНОГО ОБРАЗОВАНИЯ И НАУКИ РОССИЙСКОЙ ФЕДЕРА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Современные требования к организации</a:t>
            </a:r>
            <a:r>
              <a:rPr b="1" lang="ru-RU" sz="32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 работы по охране труда в учреждении образования</a:t>
            </a:r>
            <a:br>
              <a:rPr sz="1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лавный технический инспектор тру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Arial"/>
              </a:rPr>
              <a:t>Корельский Пётр Михайлови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ел. 8(473) 252194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it3601@mail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айт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www.vobkom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  <a:ea typeface="Calibri"/>
              </a:rPr>
              <a:t> </a:t>
            </a:r>
            <a:br>
              <a:rPr sz="36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1644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Система внутреннего контроля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-252720" y="475920"/>
            <a:ext cx="93963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соответствии со ст. 214 Трудового кодекса РФ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тодатель обязан обеспечить организацию контроля за состоянием условий труда на рабочих местах, соблюдением работниками требований охраны труда, а также за правильностью применения ими средств индивидуальной и коллективной защи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        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 соответствии со ст. 370 ТК РФ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фессиональные союзы имеют право на осуществление контроля за соблюдением работодателями и их представителями трудового законодательства и иных нормативных правовых актов, содержащих нормы трудового права, выполнением ими условий коллективных договоров, согла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правление охраной труда рекомендуется осуществлять при непосредственном участии профессиональных союзов в рамках деятельности комиссии по охране труда и уполномоченных доверенных лиц по охране труда (п.15 Примерного положения о СУОТ утвержденного Приказом Минтруда России от 29.10.2021 № 776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-181440" y="-171720"/>
            <a:ext cx="932508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рганизация административно-общественного контроля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252720" y="404640"/>
            <a:ext cx="939636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лями административно-общественного контроля являются выявление нарушений трудового законодательства в области охраны труда, электробезопасности, пожарной безопасности своевременное их устранение, анализ причин и выработка мер по предупреждению их повторения, а также повышение персональной ответственности руководителей, непосредственных исполнителей за безопасное выполнение рабо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министративно-общественный контроль за состоянием условий и охраны труда направлен на привлечение работников к  участию в работе по улучшению условий труда в организации, профилактике производственного травматизма, общей и профессиональной заболеваемости работ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ехступенчатый (административно-общественный) контроль, в системе управления охраной труда, является основной формой контроля администрации и комитетов профсоюза организации за состоянием условий и безопасности труда на рабочих местах, а также соблюдением всеми службами, должностными лицами и работниками требований трудового законодательства, правил, норм, инструкций и др. по охране тру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-324000" y="0"/>
            <a:ext cx="9576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Arial"/>
              </a:rPr>
              <a:t>Первая ступень трёхступенчатого контро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ую ступень осуществляют заведующие кабинетами учебными мастерскими, работники на своих рабочих местах, которые ежедневно до начала работы проверяют рабочие места на соответствие требованиям охраны труд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обнаружении отклонений от правил и норм охраны труда, производственной санитарии, которые могут быть устранены сразу, устраняются немедленно, остальные записываются в журнал административно-общественного контроля с указанием сроков исполн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Arial"/>
              </a:rPr>
              <a:t>Вторая ступень трёхступенчатого контро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торую ступень контроля  проводят руководители служб (специалист) по охране труда, комиссии по охране труда, уполномоченные лица профсоюза, которые проверяю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рганизацию и результаты работы первой ступени контрол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выполнение приказов и распоряжений руководителя организации и решений комитета профсоюза, предложений уполномоченных по охране труда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зультаты проверки записываются  в журнале административно-общественного контроля и сообщаются администрации организации. В случае грубого нарушения правил и норм охраны труда, которое может причинить ущерб здоровью работников или привести к аварии, работа приостанавливается до устранения этого наруше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Arial"/>
              </a:rPr>
              <a:t>Третья ступень трёхступенчатого контрол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Arial"/>
              </a:rPr>
              <a:t>Третья ступень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существляется  руководителем организации (структурного подразделения) и председателем профсоюзной организации (профбюро) не реже одного раза в полугодие. По результатам проверки издается приказ о состоянии охраны труда в организации с указанием  выявленных нарушений и ответственных лиц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Трёхступенчатый контроль осуществляется на основе Положения об административно-общественном контроле ( формы документов представлены в информационно-методическом пособии «Охрана труда в образовательной организации»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1"/>
          <p:cNvSpPr/>
          <p:nvPr/>
        </p:nvSpPr>
        <p:spPr>
          <a:xfrm>
            <a:off x="2286000" y="3137040"/>
            <a:ext cx="45720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Участие профсоюзного актива в приёмке организаций к новому учебному году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-396720" y="907920"/>
            <a:ext cx="9648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едателям районных, городских профсоюзных организаций, внештатным техническим инспекторам труда рекомендуем принять участие в работе комиссий по приемке образовательных организаций к началу нового учебного года на муниципальных уровнях, председателям первичных профсоюзных организаций, уполномоченным по охране труда  в составе комиссий образовательных организаций. Следует  провести выборочное визуальное обследование зданий и сооружений образовательных организаций на соответствие требованиям безопасности, в том числе в составе данных комисс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зультатом работы участия профсоюзного актива в приемке должны стать заполненные таблицы готовности локальных актов образовательной организации и описание  выявленных нарушений влияющих на безопасность работников и обучающихся при осуществлении образовательного процесса. Данные таблицы могут быть также использованы образовательной организацией как листы внутреннего контроля её готов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седателям районных, городских организаций профсоюза рекомендуем в случае необходимости направлять справки в органы управления образованием и учредителям с целью устранения нару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бследование технического состояния зданий и сооружений образовательных организаций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-252720" y="907920"/>
            <a:ext cx="9396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1. Осмотр внутренних и наружных сте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Трещины в штукатурке, отслоение штукатурки, изменение геометрии оконных, дверных проемов, отклонение по вертикали, намокание в результате протечек, целостность водосточной констр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2. Осмотр потолков и перекрыт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леды намокания, протечки, отслоение, обвалы штукатурки, следы гниения, прогибы, трещи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3. Осмотр кровл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вреждение целостности ковра гидроизоляции, нарушение работы системы водостока, наличие протечек. Следы поражения гнилью балок, стропил, видимые деформации стропил и бал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4. Осмотр по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гибы, провалы, выпадение кусков половых реек, поражение гнилью половиц, торчащие шляпки гвоздей, шурупов, разрушение напольных покрыт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26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,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24000" y="0"/>
            <a:ext cx="9468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 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смотр дверей и око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овреждение дверных коробок, обналички, наличие перекосов. Целостность оконных коробок и остек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 Осмотр системы отопл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личие жалоб на недостаточную температуру в помещениях. Наличие протечек (жгуты, хомут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 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смотр системы водоснабжения, канализации, санитарно-технического оборудова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аличие протечек (жгуты, хомуты). Целостность и функционирование санитарных приборов. Функционирование запорной арматуры, водоразборных кранов, смесителей, не работающая вентиля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8. Осмотр лестничных марш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щерблины на ступенях, наличие ограждений, знаки предупреждающие о скользких поверхностях и перепадах высо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 результатам обследования уполномоченным лицом по охране труда может быть выдано представление работодателю с предложением устранить выявленные нарушения. Председателям районных, городских организаций профсоюза рекомендуется в случае необходимости направлять справки в органы управления образованием и учредителям с целью устранения нару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аблица готовности локальных актов по охране труда при приемке организации к новому 2024 - 2025 учебному году.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530360" y="836640"/>
          <a:ext cx="6191280" cy="6095880"/>
        </p:xfrm>
        <a:graphic>
          <a:graphicData uri="http://schemas.openxmlformats.org/drawingml/2006/table">
            <a:tbl>
              <a:tblPr/>
              <a:tblGrid>
                <a:gridCol w="450720"/>
                <a:gridCol w="4500720"/>
                <a:gridCol w="1239840"/>
              </a:tblGrid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именование локального ак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тметка о готов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ожение о системе управления охраной труда в организ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 по оценке профессиональных риск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1769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стоверения о проверке знаний требований охраны тру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. Руководител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. Лица ответственного за охрану тру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. Руководителей проводящих инструктажи по охране тру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. Уполномоченного (доверенного) лица по охране труда, членов комиссии по  проверке знаний требований охраны тру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988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актов приемки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. Мастерские для мальчико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. Кабинет технологии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. Спортивный зал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. Пищеблок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787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актов испытания оборудования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. В спортивном зале, школьном стадионе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. В пищеблоке (технологического и холодильного)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акта испытания диэлектрических средств защит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дицинские аптечки (в соответствии с приказом Минздрава РФ №1331н от 15.12.2020 г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592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заключительного акта о прохождении 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медосмотра;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сихиатрического освидетельствова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акта общего технического осмотра здания (весенний 2024г.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5229360"/>
            <a:ext cx="9144000" cy="16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Для актуализации документации по охране труда рекомендуем использовать комплект локальных нормативных актов работодателя по охране труда, который можно найти по ссылке: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 u="sng">
                <a:solidFill>
                  <a:srgbClr val="ff4568"/>
                </a:solidFill>
                <a:uFillTx/>
                <a:latin typeface="Arial"/>
                <a:hlinkClick r:id="rId1"/>
              </a:rPr>
              <a:t>https://cloud.mail.ru/public/f56g/LUR9p9GkE</a:t>
            </a:r>
            <a:endParaRPr b="0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476360" y="255600"/>
          <a:ext cx="6191280" cy="4572000"/>
        </p:xfrm>
        <a:graphic>
          <a:graphicData uri="http://schemas.openxmlformats.org/drawingml/2006/table">
            <a:tbl>
              <a:tblPr/>
              <a:tblGrid>
                <a:gridCol w="450720"/>
                <a:gridCol w="4500720"/>
                <a:gridCol w="1239840"/>
              </a:tblGrid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урнал регистрации инструктажа на рабочем месте. Дата последнего инструктаж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у ответственного за электробезопасность удостоверения на группу допуска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588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урнал проведения инструктажа на 1 группу по электробезопасности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 последнего инструктаж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ень профессий и должностей на выдачу СИЗ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чень профессий и должностей на выдачу смывающих и обезвреживающих средств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чные карточки на выдачу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 СИЗ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ьная оценка условий труда (указать на каком количестве рабочих мест не проведена СОУТ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рабочих мес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195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уголка по охране труда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стояние электрощитовой комнаты.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диэлектрических средств (изолирующей штаги, изолирующих клещей, диэлектрических перчаток, галош (бот), диэлектрического ковра)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./неуд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протокола замеров сопротивления изоляции электросети и заземления оборудования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390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каз о назначении лица ответственного за охрану труд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ts val="1536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сть/не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16080"/>
            <a:ext cx="9144000" cy="8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Система управления охраной труда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-397080" y="333360"/>
            <a:ext cx="97218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Нормативные правовые ак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рудовой кодекс РФ ст.209, 214, 217, 218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иказ Минтруда РФ от 29 октября 2021 г. № 776н «Примерное положение о системе управления охраной труд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иказ Минтруда РФ от 22 сентября 2021 г. № 650н «Примерное положение о комитете (комиссии) по охране труд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имерное положение о системе управления охраной труда. Утверждено постановлением Исполкома Профсоюза от 29.05.2018 г. №13-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Локальные нормативные акты работодателя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ложение о системе управления охраной труда в организ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ложение о комиссии по охране тру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оложение об уполномоченном (доверенном) лице профком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Коллективный договор, соглашение по охране тру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т. 217 Система управления охраной труда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97080" y="475920"/>
            <a:ext cx="97930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истема управления охраной труда - комплекс взаимосвязанных и взаимодействующих между собой элементов, устанавливающих политику и цели в области охраны труда у конкретного работодате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 процедуры по достижению этих це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ботодатель обязан обеспечить создание и функционирование системы управления охраной тру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Работодателю рекомендуется: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. Назначить работников, ответственных за соблюдение требований охраны труда с распределением обязанностей  и предоставлением им необходимых полномоч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.  Обеспечить систематическое выявление опасностей и профессиональных рисков, их регулярный анализ и оцен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. Определить основные виды контроля функционирования СУОТ, к которым относятс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- контроль состояния рабочего места, применяемого оборудования, инстр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-контроль выполнения процессов, имеющих периодический характер (СОУТ, ОПР, обучение по охране труда, обеспечение СИЗ, проведение медицинских осмотров, психиатрических освидетельствований и др.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C:\Users\User\Documents\Экран портф 1.jpg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74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Функционирование системы управления охраной труда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-324360" y="333360"/>
            <a:ext cx="9649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сновными процессами по охране труда явля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) специальная оценка условий труда (СОУТ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) оценка профессиональных рисков (ОПР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) проведение медицинских осмотров и психиатрических освидетельствований работни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) проведение обучения работни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) обеспечение работников средствами индивидуальной защи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) обеспечение безопасности работников при эксплуатации зданий, сооружений, оборудов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ж) обеспечение безопасности работников и обучаемы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воспитанников) при осуществлении учебного процесс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) санитарно-бытовое обеспечение работни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) обеспечение соответствующих режимов труда и отдыха работни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) реагирование на несчастные случаи и микроповреждения (микротравмы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УТ  и ОПР являются  базовыми, по их результатам формируется и корректируется реализация других процесс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243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ПЕЦИАЛЬНАЯ ОЦЕНКА УСЛОВИЙ ТРУДА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-252360" y="475920"/>
            <a:ext cx="9577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Нормативные правовые ак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Трудовой кодекс РФ ст.209; ст. 214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Федеральный закон от 28 декабря 2013 г. № 426-ФЗ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О специальной оценке условий труд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Приказ Минтруда России от 21.11.2023 N 817н "Об утверждении Методики проведения специальной оценки условий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. Приказ Минтруда РФ от 01.06.2015 №335н «Об утверждении особенностей проведения СОУТ …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Локальные нормативные  акты работодателя</a:t>
            </a:r>
            <a:br>
              <a:rPr sz="18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каз об организации и проведении специальной оценке условий труда (далее - СОУТ)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каз о создании комиссии по проведению СОУТ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тчет о проведении СОУТ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токолы комиссии по проведению СОУТ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каз о компенсациях за вредные и (или) опасные условия тру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Декларация соответствия условий труда государственным нормативным требованиям охраны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П"/>
              </a:rPr>
              <a:t>Периодичность проведения СОУТ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0" y="836280"/>
            <a:ext cx="9144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5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ая оценка условий труда на рабочем месте проводится не реже, чем один раз в пять лет. Указанный срок исчисляется со дня внесения сведений о результатах проведения специальной оценки условий труда в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ормационную </a:t>
            </a:r>
            <a:r>
              <a:rPr b="0" lang="ru-RU" sz="1600" spc="-1" strike="noStrike" u="sng">
                <a:solidFill>
                  <a:srgbClr val="ff4568"/>
                </a:solidFill>
                <a:uFillTx/>
                <a:latin typeface="Times New Roman"/>
                <a:ea typeface="Times New Roman"/>
                <a:hlinkClick r:id="rId1"/>
              </a:rPr>
              <a:t>систему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учет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15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ая оценка условий труда не проводится на рабочих местах, на которые работодателем ранее подавалась «Декларация  соответствия условий труда государственным нормативным требования охраны труда».  Декларированию подлежат рабочие места, относящиеся к 1 и 2 классам условий труда, за исключением рабочих мест указанных в части 6 статьи 10 Федерального закона «О специальной оценке условий труда». Таким образом, декларированию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 подлежат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абочие места, так называемых, «списочников». К ним относятся должности: воспитателя, учителя, мастера производственного обучения, логопеда, музыкального руководителя и т.д., в соответствии со «Списком должностей и учреждений, работа в которых засчитывается в стаж работы, дающей право на досрочное назначение трудовой пенсии по старости лицам, осуществляющим педагогическую деятельность в учреждениях для детей», в соответствии с подпунктом 19 пункта 1 статьи 27 Федерального закона «О трудовых пенсиях в Российской Федерации», утвержденный постановлением Правительства РФ от 29 октября 2002 г. № 781.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115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ходя из вышесказанного, при условии подачи «Декларации соответствия…», специальная оценка условий труда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роводится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только на рабочих местах с вредными условиями труда (3 класс) и на рабочих местах «списочников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15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одготовка к проведению СОУТ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24360" y="691920"/>
            <a:ext cx="96490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т. 9 426 - ФЗ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налогичными рабочими местам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знаются рабочие места, которые расположены в одном или нескольких однотипных помещениях, оборудованных одинаковыми (однотипными) системами вентиляции, кондиционирования воздуха, отопления и освещения, на которых работники работают по одной и той же профессии, должности, специальности, осуществляют одинаковые трудовые функции в одинаковом режиме рабочего времени при ведении однотипного технологического процесса с использованием одинаковых производственного оборудования, инструментов, приспособлений, материалов и сырья и обеспечены одинаковыми средствами индивидуальной защиты.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Особенности проведения специальной оценки условий труда на отдельных рабочих мест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При выявлении аналогичных рабочих мест СОУТ проводится в отношении 20 процентов рабочих мест от общего числа таких рабочих мест (но не менее чем двух рабочих мест) и ее результаты применяются ко всем аналогичным рабочим мест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На аналогичные рабочие места заполняется одна карта СОУ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В отношении аналогичных рабочих мест разрабатывается единый перечень мероприятий по улучшению условий и охраны труда работни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-32328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404640"/>
            <a:ext cx="9144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работодатель намерен заявить рабочие места в качестве аналогичных, то до начала СОУТ нужно привести в порядок все локальные документы, подтверждающие признаки аналогичности рабочих мест. Должности, профессии и специальности работников должны называться в них одинако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и образовательных организаций допускают ошибку указывая в штатном расписании и трудовой книжке должность учитель географии, истории и т.д., вместо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читель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Если в штатном расписании указаны учитель географии, учитель истории, то эти рабочие места уже не будут аналогичны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штатном расписании, трудовой книжке, перечне рабочих мест подлежащих СОУТ должности и специальности должны называться в соответствии с  приказом МЗСР от 26 августа 2010 г. №761н «Об утверждении единого квалификационного справочника должностей руководителей, специалистов и служащих, раздел «Квалификационные характеристики работников образования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84582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Оценка профессиональных рисков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97080" y="404640"/>
            <a:ext cx="97218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Нормативные правовые ак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Трудовой кодекс РФ ст.209, 214, 217, 218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каз Минтруда РФ от 29 октября 2021 г. N 776н «Примерное положение о системе управления охраной труд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каз от 28 декабря 2021 г. N 796 «Рекомендации по выбору методов оценки уровней профессиональных рисков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каз Минтруда России от 31.01.2022 N 36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"Об утверждении Рекомендаций по классификации, обнаружению, распознаванию и описанию опасностей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Локальные нормативные акты работодател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чёт по оценке профессиональных рисков в котором отражен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документ, описывающий используемый метод (методы) оценки уровня риск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перечень (реестр) опасност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документ, подтверждающий проведение оценки уровней рисков, с указанием установленных уровней по каждому риск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документ, содержащий перечень мер по исключению, снижению или контролю уровней рис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т. 218 Профессиональные риски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-181440" y="404280"/>
            <a:ext cx="93250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 обеспечении функционирования системы управления охраной труд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ботодателем должны проводиться системные мероприятия по управлению профессиональными рисками на рабочих местах, связанные с выявлением опасностей, оценкой и снижением уровней профессиональных рисков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Профессиональные риски в зависимости от источника их возникновения подразделяются на риски травмирования работника и риски получения им профессионального заболевания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явление опасностей осуществляется путем обнаружения, распознавания и описания опасностей, включая их источники, условия возникновения и потенциальные последствия при управлении профессиональными риск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асности подлежат обнаружению, распознаванию и описанию в ходе проводимого работодателем контроля за состоянием условий и охраны труда и соблюдением требований охраны труда в структурных подразделениях и на рабочих местах, при проведении расследования несчастных случаев на производстве и профессиональных заболеваний, а также при рассмотрении причин и обстоятельств событий, приведших к возникновению микроповреждений (микротрав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ценка профессиональных рисков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51" name="Picture 4" descr="I:\Новая папка\Оценка рисков школа_01.jpg"/>
          <p:cNvPicPr/>
          <p:nvPr/>
        </p:nvPicPr>
        <p:blipFill>
          <a:blip r:embed="rId1"/>
          <a:stretch/>
        </p:blipFill>
        <p:spPr>
          <a:xfrm>
            <a:off x="3413160" y="812880"/>
            <a:ext cx="2441520" cy="3451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I:\Новая папка\Оценка рисков детский сад_01.jpg"/>
          <p:cNvPicPr/>
          <p:nvPr/>
        </p:nvPicPr>
        <p:blipFill>
          <a:blip r:embed="rId2"/>
          <a:stretch/>
        </p:blipFill>
        <p:spPr>
          <a:xfrm rot="20628000">
            <a:off x="880920" y="975960"/>
            <a:ext cx="2370240" cy="334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I:\Новая папка\Оценка рисков дополнительное образование_01.jpg"/>
          <p:cNvPicPr/>
          <p:nvPr/>
        </p:nvPicPr>
        <p:blipFill>
          <a:blip r:embed="rId3"/>
          <a:stretch/>
        </p:blipFill>
        <p:spPr>
          <a:xfrm rot="1205400">
            <a:off x="5730840" y="1130400"/>
            <a:ext cx="2463840" cy="3483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I:\Новая папка\Оценка рисков СПО_01.jpg"/>
          <p:cNvPicPr/>
          <p:nvPr/>
        </p:nvPicPr>
        <p:blipFill>
          <a:blip r:embed="rId4"/>
          <a:stretch/>
        </p:blipFill>
        <p:spPr>
          <a:xfrm rot="19324200">
            <a:off x="1768320" y="2877840"/>
            <a:ext cx="2421000" cy="3422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I:\Новая папка\Оценка рисков ВУЗ_01.jpg"/>
          <p:cNvPicPr/>
          <p:nvPr/>
        </p:nvPicPr>
        <p:blipFill>
          <a:blip r:embed="rId5"/>
          <a:stretch/>
        </p:blipFill>
        <p:spPr>
          <a:xfrm rot="437400">
            <a:off x="4622400" y="3013200"/>
            <a:ext cx="2465280" cy="34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24360" y="0"/>
            <a:ext cx="964908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ценка профессиональных рисков в организации образования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24000" y="836640"/>
            <a:ext cx="9468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Методы оценки уровней профессиональных риск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расчете и при проведении идентификации выбраны и реализованы методы оценки риска при выполнении работ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матричный метод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Файна-Кин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тоги расчетов отражены в картах оценки рисков идентифицирован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асностей на рабочем месте, в которых указан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индивидуальные рис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 оценкой по каждой опас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меры по управлению рискам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общие мер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проведение которых необходимо в соответствии с государственными нормативными требованиями охраны труда; </a:t>
            </a: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пециальные мер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проведение которых необходимо для снижения риска воздействия опасностей, присущих конкретному рабочему месту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бщие риски (расчет общего коэффициента травматизма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ценка риска возникновения профессионального заболевани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-171360"/>
            <a:ext cx="7772400" cy="16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ечень рабочих мест, в отношении которых проводилась оценка профессиональных рисков</a:t>
            </a:r>
            <a:br>
              <a:rPr sz="1800"/>
            </a:b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32000" y="836640"/>
          <a:ext cx="7488000" cy="5871960"/>
        </p:xfrm>
        <a:graphic>
          <a:graphicData uri="http://schemas.openxmlformats.org/drawingml/2006/table">
            <a:tbl>
              <a:tblPr/>
              <a:tblGrid>
                <a:gridCol w="503280"/>
                <a:gridCol w="6984720"/>
              </a:tblGrid>
              <a:tr h="42012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лжность (профессия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иректо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меститель директо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меститель директора по АХ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ьный педагог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дагог-психолог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читель-логопе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дагог-организатор, тьюто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дагог дополнительного образ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39060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подаватель-организатор основ безопасности жизнедеятельност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пита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арший вожаты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дагог-библиотекарь (библиотекарь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аборант (по обслуживанию компьютеров и оргтехники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елопроизводитель (секретарь-машинистка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ладовщи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еф-повар (повар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собный рабочий кухни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ойщик посуд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бочий по комплексному обслуживанию и ремонту зданий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борщик служебных помещений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ворни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ардеробщи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орож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210240"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>
                  <a:txBody>
                    <a:bodyPr lIns="56520" rIns="565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дител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56520" marR="565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</a:tbl>
          </a:graphicData>
        </a:graphic>
      </p:graphicFrame>
      <p:sp>
        <p:nvSpPr>
          <p:cNvPr id="160" name="Rectangle 1"/>
          <p:cNvSpPr/>
          <p:nvPr/>
        </p:nvSpPr>
        <p:spPr>
          <a:xfrm>
            <a:off x="2392200" y="977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формационно-методическое пособие «Охрана труда в образовательной организации»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Picture 2" descr="C:\Users\User\Documents\Сборник.jpg"/>
          <p:cNvPicPr/>
          <p:nvPr/>
        </p:nvPicPr>
        <p:blipFill>
          <a:blip r:embed="rId1"/>
          <a:stretch/>
        </p:blipFill>
        <p:spPr>
          <a:xfrm>
            <a:off x="108000" y="1484280"/>
            <a:ext cx="3095640" cy="4608720"/>
          </a:xfrm>
          <a:prstGeom prst="rect">
            <a:avLst/>
          </a:prstGeom>
          <a:ln cap="sq" w="12600">
            <a:solidFill>
              <a:srgbClr val="ffff00"/>
            </a:solidFill>
            <a:miter/>
          </a:ln>
        </p:spPr>
      </p:pic>
      <p:sp>
        <p:nvSpPr>
          <p:cNvPr id="102" name="Прямоугольник 3"/>
          <p:cNvSpPr/>
          <p:nvPr/>
        </p:nvSpPr>
        <p:spPr>
          <a:xfrm>
            <a:off x="3276720" y="2274840"/>
            <a:ext cx="60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ОДЕРЖ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Глава 1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Обязанности работодателя по обеспечению безопасных условий и охраны труда</a:t>
            </a: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Глава 2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Сборник приказов по охране труда для образовательной организации</a:t>
            </a:r>
            <a:br>
              <a:rPr sz="2400"/>
            </a:br>
            <a:r>
              <a:rPr b="1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Глава 3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Рекомендации уполномоченному (доверенному) лицу по охране труда профсоюза по осуществлению общественного контроля за условиями и охраной труда в  образовательной организ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5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СЫЛКА на методический материал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папке размещены отчёты по оценке профессиональных рисков для всех типов образовательных организаций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181440" y="1484280"/>
            <a:ext cx="93250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4568"/>
                </a:solidFill>
                <a:uFillTx/>
                <a:latin typeface="Arial"/>
                <a:hlinkClick r:id="rId1"/>
              </a:rPr>
              <a:t>https://cloud.mail.ru/public/MApy/T9aFHK92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0" y="76464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язанности по обеспечению безопасных условий и охраны труда возлагаются на работода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Работодатель обязан создать безопасные условия труда исходя из комплексной оценки технического и организационного уровня рабочего места, а также исходя из оценки факторов производственной среды и трудового процесса, которые могут привести к нанесению вреда здоровью работников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ботодатель обязан обеспечит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езопасность работников при эксплуатации зданий, сооружений, оборудования, осуществлении технологических процессов, а также применяемых в производстве инструментов, сырья и материал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и функционирование системы управления охраной тру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ответствующие требованиям охраны труда условия труда на каждом рабочем мест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истематическое выявление опасностей и профессиональных рисков, их регулярный анализ и оценку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28600" indent="0" algn="ctr"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бязанности работодателя в области охраны труда (ст.214 ТК РФ)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7640" y="0"/>
            <a:ext cx="83502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ежим труда и отдыха работников в соответствии с трудовым законодательство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обретение и выдачу за счет собственных средств специальной одежды, специальной обуви и других средств индивидуальной защиты, смывающих и обезвреживающих средств в соответствии с установленными нормами работникам, занятым на работах с вредными и (или) опасными условиями труда, а также на работах, выполняемых в особых температурных условиях или связанных с загрязнением</a:t>
            </a:r>
            <a:r>
              <a:rPr b="0" lang="ru-RU" sz="2000" spc="-1" strike="noStrike">
                <a:solidFill>
                  <a:srgbClr val="212745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нащение средствами коллективной защит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бучение по охране труда, в том числе обучение безопасным методам и приемам выполнения работ, обучение по оказанию первою помощи пострадавшим на производстве, обучение по использованию (применению) средств индивидуальной защиты, инструктаж по охране труда, стажировку на рабочем месте (для определенных категорий работников) и проверку знаний требований охраны тру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0" y="-171720"/>
            <a:ext cx="9144000" cy="62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ю контроля за состоянием условий труда на рабочих местах, а также за правильностью применения работниками СИЗ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ведение специальной оценки условий труд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рганизацию проведения за счет собственных средств обязательных предварительных и периодических медицинских осмотров (обследований), обязательных психиатрических освидетельствовани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едопущение к работе лиц, не прошедших обучение и инструктаж по охране труда, стажировку и проверку знаний требований охраны труда, обязательных медицинских осмотров и психиатрических освидетельствований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нятие мер по предотвращению аварийных ситуаций, сохранению жизни и здоровья работников при возникновении таких ситуаций, в том числе по оказанию пострадавшим первой помощ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ледование и учет несчастных случаев на производстве профессиональных заболеваний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ет и рассмотрение причин и обстоятельств событий, приведших к возникновению микроповреждений (микротравм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анитарно-бытовое обслуживание и медицинское обеспечение работников, а также доставку работников, заболевших на рабочем месте, в медицинскую организацию в случае необходимости оказания им неотложной медицинской помощ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0" y="-360"/>
            <a:ext cx="9252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328680">
              <a:lnSpc>
                <a:spcPct val="115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выполнение предписаний должностных лиц и рассмотрение представлений органов общественного контроля в установленные законодательством срок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328680">
              <a:lnSpc>
                <a:spcPct val="115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- обязательное социальное страхование работников от несчастных случаев на производстве и профессиональных заболеван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328680">
              <a:lnSpc>
                <a:spcPct val="115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- информирование работников об условиях и охране труда на их рабочих местах, о существующих профессиональных рисках и их уровнях, а также о мерах по защите от воздействия вредных производственных факторов, имеющихся на рабочих местах, о предоставляемых им гарантиях, полагающимся им компенсациям и средствах индивидуальной защиты, о видео-ауди- контроле 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3286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азработку и утверждение локальных нормативных актов по охране труда с учетом мнения выборного органа первичной профсоюзной организации в порядке, установленном статьей 372 настоящего Кодекса для принятия локальных нормативных ак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3286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- ведение реестра нормативных правовых актов, содержащих требования охраны труда в соответствии со спецификой своей деятельности, а также доступ работников к н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3286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15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остановление при возникновении угрозы жизни и здоровью работников производства работ, а также эксплуатации оборудования, зданий или сооружений, осуществления отдельных видов деятельности, оказания услуг до устранения такой угрозы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приеме на работу инвалида или в случае признания работника инвалидом создание для него условий труда, в том числе производственных и санитарно-бытовых, в соответствии с индивидуальной программой реабилитации или абилитации инвалида, а также обеспечение охраны тру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 производстве работ (оказании услуг) на территории, находящейся под контролем другого работодателя (иного лица), работодатель, осуществляющий производство работ (оказание услуг), обязан перед началом производства работ (оказания услуг) согласовать с другим работодателем (иным лицом) мероприятия по предотвращению случаев повреждения здоровья работников, в том числе работников сторонних организаций, производящих работы (оказывающих услуги) на данной территории. Примерный перечень мероприятий по предотвращению случаев</a:t>
            </a:r>
            <a:r>
              <a:rPr b="0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реждения здоровья работников утверждается  Минтрудом Р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татья 214.2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Права работодателя в области охраны труда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одатель имеет прав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ть в целях контроля за безопасностью производства работ приборы, устройства, оборудование и (или) комплексы (системы) приборов, устройств, оборудования, обеспечивающих дистанционную видео-, аудио- или иную фиксацию процессов производства работ, обеспечивать хранение полученной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сти электронный документооборот в области охраны труд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оставлять дистанционный доступ к наблюдению за безопасным производством работ, а также к базам электронных документов работодателя в области охраны труда федеральному органу исполнительной власти, (государственным инспекциям труда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360" y="-316440"/>
            <a:ext cx="8458200" cy="10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Ст. 215 Обязанности работника в области охраны труда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-360" y="404640"/>
            <a:ext cx="93963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Работник обязан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соблюдать требования охраны тру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ьно использовать оборудование, инструменты, сырье и материалы, применять технолог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ледить за исправностью используемых оборудования и инстр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пользовать и правильно применять средства индивидуальной и коллективной защиты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ходить обучение безопасным методам и приемам выполнения работ и оказанию первой помощи пострадавшим на производстве, обучение по использованию средств индивидуальной защиты, инструктаж по охране труда, стажировку на рабочем месте, проверку знаний требований охраны тру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медленно извещать своего непосредственного или вышестоящего руководителя о любой ситуации, угрожающей жизни и здоровью людей, о каждом несчастном случае, происшедшем на производстве, или об ухудшении состояния своего здоровь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ходить обязательные медицинские осмотры, обязательные психиатрические освидетельств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9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Статья 216. Права работника в области охраны труда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Каждый работник имеет право на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252720" y="1125360"/>
            <a:ext cx="9396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абочее место, соответствующее требованиям охраны тру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ение достоверной информации от работодателя об условиях и охране труда на рабочем месте, о существующих профессиональных рисках и их уровнях, а также о мерах по защите от воздействия вредных и (или) опасных производственных фактор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тказ от выполнения работ в случае возникновения опасности для его жизни и здоровья вследствие нарушения требований охраны труда до устранения такой опасности, за исключением случаев, предусмотренных федеральными закон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еспечение в соответствии с требованиями охраны труда за счет средств работодателя средствами коллективной и индивидуальной защиты и смывающими средств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бучение по охране труда за счет средств работодател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252720" y="0"/>
            <a:ext cx="939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15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рантии и компенсации в связи с работой с вредными и (или) опасными условиями труда, установленные коллективным договором, трудовым договор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щение о проведении проверки условий и охраны труда на его рабочем месте федеральным органом исполнительной власти (ГИТ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чное участие или участие через своих представителей в рассмотрении вопросов, связанных с обеспечением безопасных условий труда на его рабочем месте, и в расследовании происшедшего с ним несчастного случая на производстве или профессионального заболевания, а также в рассмотрении причин и обстоятельств событий, приведших к возникновению микроповреждений (микротравм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очередной медицинский осмотр в соответствии с нормативными правовыми актами и (или) медицинскими рекомендациями с сохранением за ним места работы (должности) и среднего заработка на время прохождения указанного медицинского осмот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448920" algn="just">
              <a:lnSpc>
                <a:spcPct val="115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вышенные или дополнительные гарантии и компенсации работникам, занятым на работах с вредными и (или) опасными условиями труда, могут устанавливаться коллективным договором, локальным нормативным актом работодателя с учетом финансово-экономического положения работодател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нформационно-методическое пособие «Охрана труда в образовательной организации» можно открыть по ссылке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1641240"/>
            <a:ext cx="90360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4568"/>
                </a:solidFill>
                <a:uFillTx/>
                <a:latin typeface="Arial"/>
                <a:hlinkClick r:id="rId1"/>
              </a:rPr>
              <a:t>https://cloud.mail.ru/public/uTkQ/63GRch9S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-459000"/>
            <a:ext cx="9144000" cy="237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пособы и формы  информирования работников об их трудовых правах, включая право на безопасные условия и охрану труда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24000" y="1412640"/>
            <a:ext cx="9468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Нормативные правовые ак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рудовой кодекс РФ, ст. 21, 22, 57, 215, 216, 216.1, 216.2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иказ Минтруда РФ от 29 октября 2021 г. № 773н «Об утверждении форм (способов) информирования работников об их трудовых правах, включая право на безопасные условия и охрану труда, и примерного перечня информационных материалов в целях информирования работников об их трудовых правах, включая право на безопасные условия и охрану труд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иказ Минтруда РФ от 17.12.2021 г. № 894 «Об утверждении рекомендаций по размещению работодателем информационных материалов в целях информирования работников об их трудовых правах, включая право на безопасные условия и охрану труд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Локальные нормативные акты работодателя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-396720" y="836280"/>
            <a:ext cx="95407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авила внутреннего трудового распоряд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Трудовые договоры с работник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Журнал регистрации вводного инструктаж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Журнал регистрации инструктажа на рабочем мест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 Карты специальной оценки условий тру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Карты оценки рисков идентифицированных опасностей на рабочем мес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Инструкции по охране тру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Обязанности и права работника в области охраны труда (ст. 215, ст. 216 ТК РФ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Нормы выдачи СИЗ работник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Уголки по охране труда, наличие кабинета охраны труда (при необходимой численности работников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23652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252720" y="115920"/>
            <a:ext cx="939636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соответствии со ст. 57 Трудового кодекса РФ информация об условиях труда на рабочем месте работника является обязательной для включения в трудовой догово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точником информации является карта СОУТ, где отража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 класс (подкласс) условий тру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лагающиеся работнику гарантии и компенс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ботник должен быть ознакомлен с результатами СОУТ (картой СОУТ) и  оценкой рисков идентифицированных опасностей на рабочем месте под роспис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оме этого работник должен быть ознакомлен с положением о СУОТ в части его касающейся. Ознакомление работника с его правами и обязанностями (ст. 215; ст. 216 ТК РФ), с требованиями должностной инструкции, инструкций по охране труда, перечнем выдаваемых на рабочем месте средств индивидуальной защиты, требованиями правил по охране труда. Указанное ознакомление осуществляется под роспись работника, в том числе с выдачей на руки указанных нормативных актов работнику для изучения при проведении инструктажа по охране труда на рабочем мес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ирование может осуществляться в электронном виде через корпоративные компьютерные сети, по электронной почте, телеф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Уголок охраны труда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24000" y="620280"/>
            <a:ext cx="94680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ятельность уголка охраны труда обеспечивает доведение до работников информ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) об обязанностях работника в области охраны труда, трудовых правах работни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) о плане работы комиссии по охране тру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) о плане работы уполномоченного лица по охране труда профком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) о графиках проведения инструктажей по охране труда и расписаниях учебных занятий по охране тру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) о приказах и распоряжениях по вопросам охраны труда у работодателя, планах мероприятий по улучшению условий и охраны тру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) о выявленных нарушениях требований законодательства об охране труда и принятых мерах по их устране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) о случаях производственного травматизма и профзаболеваний и принятых мерах по устранению их причин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) информации о нормах бесплатной выдачи специальной одежды, средств индивидуальной защиты, санитарной одежды работни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стенде Уголка охраны может быть размещена и другая информация, на усмотрение работодателя и профсоюзного комите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Статья 216.3.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Обеспечение права работников на санитарно-бытовое обслуживание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8080" y="1052640"/>
            <a:ext cx="91155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нитарно-бытовое обслуживание работников в соответствии с требованиями охраны труда возлагается на работодателя. В этих целях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ботодателем по установленным нормам оборудуются санитарно-бытовые помещения, помещения для приема пищи, комнаты для отдыха в рабочее время и психологической разгрузки, организуются посты для оказания первой помощи, укомплектованные аптечками для оказания первой помощи (приказ Минздрава №1331н от 15.12.2020 г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возка в медицинские организации или к месту жительства работников, пострадавших в результате несчастного случая на производстве и профессиональных заболеваний, а также по иным медицинским показаниям производится за счет средств работода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Обучение по охране труда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8440" y="981000"/>
            <a:ext cx="91440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Трудовой кодекс РФ ст. 214, ст. 2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Постановление правительства РФ № 2464 от 24.12.2021г. "О порядке обучения по охране труда и проверки знания требований охраны труда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Презентацию «Организация обучения по охране труда в учреждении образования» можно скачать по ссылк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4568"/>
                </a:solidFill>
                <a:uFillTx/>
                <a:latin typeface="Arial"/>
                <a:hlinkClick r:id="rId1"/>
              </a:rPr>
              <a:t>https://cloud.mail.ru/public/y8mu/t5dh3RbB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3"/>
          <p:cNvSpPr/>
          <p:nvPr/>
        </p:nvSpPr>
        <p:spPr>
          <a:xfrm>
            <a:off x="2286000" y="289080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Статья 219. Обучение по охране труда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-108000" y="475920"/>
            <a:ext cx="9360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ение по охране труда - процесс получения работниками, в том числе руководителями организаций, а также работодателями знаний, умений, навыков, позволяющих формировать и развивать необходимые компетенции с целью обеспечения безопасности труда, сохранения жизни и здоровья. Работники, в том числе руководители организаций, и работодатели проходить обучение по охране труда и проверку знания требований охраны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Обучение по охране труда предусматривает получение знаний, умений и навыков в ходе провед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структажей по охране труд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жировки на рабочем месте (для определенных категорий работников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ения по оказанию первой помощи пострадавши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учения по использованию (применению) средств индивидуальной защиты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ения по охране труда у работодателя, в том числе обучения безопасным методам и приемам выполнения работ, или в организациях, оказывающих услуги по проведению обучения по охране тру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  <a:ea typeface="Calibri"/>
              </a:rPr>
              <a:t>Планирование и оформление документ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Реестр потребности в обучении работников по охране труда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0" y="1844640"/>
          <a:ext cx="9144000" cy="4481640"/>
        </p:xfrm>
        <a:graphic>
          <a:graphicData uri="http://schemas.openxmlformats.org/drawingml/2006/table">
            <a:tbl>
              <a:tblPr/>
              <a:tblGrid>
                <a:gridCol w="611280"/>
                <a:gridCol w="2001600"/>
                <a:gridCol w="1306800"/>
                <a:gridCol w="1304640"/>
                <a:gridCol w="1363680"/>
                <a:gridCol w="1513080"/>
                <a:gridCol w="1042920"/>
              </a:tblGrid>
              <a:tr h="3661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олжность (профессия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ограмма обуч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бучение ПМ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структаж на рабочем мест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ли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еств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cc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ие вопросы О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дата последнего обучения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опасные методы и способ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ведующ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.02.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2.23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2.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. воспитател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.09.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9.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453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вор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.09.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9.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орож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.09.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9.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f6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иалист по охране тру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.02.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.02.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.02.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1000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Методический материал для организации занятий и проверки знаний требований по охране труда</a:t>
            </a:r>
            <a:br>
              <a:rPr sz="2400"/>
            </a:b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В папке размещены: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программы инструктажей;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инструкции по охране труда;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программы обучения по охране труда;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- методические материалы по обучению первой помощи при несчастных случаях и др. материалы которые можно скачать по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СЫЛКЕ: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br>
              <a:rPr sz="2400"/>
            </a:b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20520" y="2852280"/>
            <a:ext cx="914400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4568"/>
                </a:solidFill>
                <a:uFillTx/>
                <a:latin typeface="Arial"/>
                <a:hlinkClick r:id="rId1"/>
              </a:rPr>
              <a:t>https://cloud.mail.ru/public/Cswi/NJ3PWP5W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Arial"/>
              </a:rPr>
              <a:t>Презентацию «Организация обучения по охране труда в учреждении образования» можно скачать по ссылк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4568"/>
                </a:solidFill>
                <a:uFillTx/>
                <a:latin typeface="Arial"/>
                <a:hlinkClick r:id="rId2"/>
              </a:rPr>
              <a:t>https://cloud.mail.ru/public/y8mu/t5dh3RbB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-181080" y="0"/>
            <a:ext cx="95061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Локальные нормативные акты работодател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Удостоверения о проверке знаний требований охраны труда руководителей, специалист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ленов комиссии по проверке знаний требований охраны тру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иказ об организации проведения инструктажей по охране труда, организации обучения оказанию первой помощи пострадавшим, организации и проведении обучения безопасным приёмам и методам выполнения рабо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иказ об освобождении от проведения первичного инструктажа на рабочем мест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еречень профессий работников которые освобождены от первичного инструктаж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ограммы вводного инструктажа, первичного инструктажа на рабочем месте, обучению работников первой помощи пострадавши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Журнал регистрации вводного инструктаж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Журнал регистрации инструктажа на рабочем месте (первичного, повторного, внепланового, целевого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иказ о создании постоянно действующей комиссии по обучению и проверки знаний по охране труда руководителей и специалис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отоколы заседания комиссии по проверке знаний работников организ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Журнал учета обучения по оказанию первой помощи при несчастных случаях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8736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равовое регулирование участия профсоюза в общественном контроле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980640"/>
            <a:ext cx="9164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З №10 от 12.01.1996 г. «О профессиональных союзах, их правах и гарантиях деятельности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Статья 19.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Право профсоюзов на осуществление профсоюзного контроля за соблюдением законодательства о тру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фсоюзы имеют право на осуществление профсоюзного контроля за соблюдением работодателями, должностными лицами законодательства о труде. Работодатели, должностные лица обязаны в недельный срок с момента получения требования об устранении выявленных нарушений сообщить профсоюзу о результатах его рассмотрения и принятых мера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Статья 2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фсоюзы осуществляют профсоюзный контроль за состоянием охраны труда через свои органы, уполномоченных (доверенных) лиц по охране труда, а также собственные инспекции по охране труда, действующие на основании положений, утверждаемых профсоюз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беспечение работников средствами индивидуальной защиты и смывающими средствами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252720" y="907920"/>
            <a:ext cx="9504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Нормативные правовые ак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.Трудовой кодекс РФ ст.214; ст. 22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Приказ Минтруда РФ от 29.10.2021 №766н Правила обеспечения средствами индивидуальной защиты и смывающими средств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каз Минтруда России от 29.10.2021 N 767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"Об утверждении Единых типовых норм выдачи средств индивидуальной защиты и смывающих средств« (с 01.01.202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Локальные нормативные акты работода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иказ об  обеспечение работников СИЗ и смывающими сред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оложение о выдаче и применении СИЗ и смывающих сред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Нормы выдачи СИЗ по профессия (должностям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Личные карточки выдачи СИЗ работни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Журнал содержания и учёта средств защи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ССЫЛКА на методический материал по организации выдачи СИЗ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4568"/>
                </a:solidFill>
                <a:uFillTx/>
                <a:latin typeface="Arial"/>
                <a:hlinkClick r:id="rId1"/>
              </a:rPr>
              <a:t>https://cloud.mail.ru/public/MyHQ/KokjGY6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-243360"/>
            <a:ext cx="932508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татья 221. Обеспечение работников средствами индивидуальной защиты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108000" y="691920"/>
            <a:ext cx="9252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ля защиты от воздействия вредных и (или) опасных факторов производственной среды и (или) загрязнения, а также на работах, выполняемых в особых температурных условиях, работникам бесплатно выдаются средства индивидуальной защиты и смывающие сред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ства индивидуальной защиты включают в себя специальную одежду, специальную обувь, дерматологические средства защиты, средства защиты органов дыхания, рук, головы, лица, органа слуха, глаз, средства защиты от падения с высоты и другие средства индивидуальной защи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ормы бесплатной выдачи средств индивидуальной защиты и смывающих средств работникам устанавливаются работодателем на основании единых Типовых норм выдачи средств индивидуальной защиты и смывающих средств с учетом результатов специальной оценки условий труда, результатов оценки профессиональных рисков, мнения выборного органа первичной профсоюзной организа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одатель за счет своих средств обязан в соответствии с установленными нормами обеспечивать своевременную выдачу средств индивидуальной защиты, их хранение, а также стирку, химическую чистку, сушку, ремонт и замену средств индивидуальной защит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ановление Главного государственного санитарного врача РФ от 28.09.2020 N 28 "Об утверждении санитарных правил СП 2.4.3648-20 "Санитарно-эпидемиологические требования к организациям воспитания и обучения, отдыха и оздоровления детей и молодежи" (вместе с "СП 2.4.3648-20. Санитарные правила...") (Зарегистрировано в Минюсте России 18.12.2020 N 61573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.1.9. Воспитатели и помощники воспитателя обеспечиваются санитарной одеждой из расчета не менее 2 комплектов на 1 человека. У помощника воспитателя дополнительно должны быть: фартук, колпак или косынка для надевания во время раздачи пищи, фартук для мытья посуды и отдельный халат для уборки помещ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24360" y="0"/>
            <a:ext cx="972036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Обязанности работодателя в обеспечении работников СИЗ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252720" y="549360"/>
            <a:ext cx="93963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ботодатель обязан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разработать на основании Единых типовых норм, с учетом результатов СОУТ, результатов ОПР, мнения выборного органа первичной профсоюзной организации) и утвердить локальным нормативным актом Нормы бесплатной выдачи СИЗ и смывающих средств работникам организации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беспечить разработку положения (порядка) выдачи СИЗ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беспечить информирование работников о полагающихся им СИЗ и смывающих средства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беспечить проведение обучения, инструктажа или иного способа информирования работников о правилах эксплуатации СИЗ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рганизовать учет и контроль за выдачей работникам СИЗ и смывающих средств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беспечить уход (стирку, химчистку)  за СИ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. 37.Правил…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 работах, связанных с неустойчивыми загрязнениями, работодатель имеет право не выдавать непосредственно работнику смывающие средства. В этом случае работодатель обеспечивает их постоянное наличие в санитарно-бытовых помещениях. Внесение отметки о выдаче на данных условиях указанных смывающих средств в личную карточку учета выдачи СИЗ не требуетс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ОРГАНИЗАЦИЯ СЛУЖБЫ ОХРАНЫ ТРУДА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т. 223 Служба охраны труда у работодате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целях обеспечения соблюдения требований охраны труда, осуществления контроля за их выполнением у каждого работодателя, осуществляющего производственную деятельность, численность работников которого превышает 50 человек, создается служба охраны труда или вводится должность специалиста по охране тру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одатель, численность работников которого не превышает 50 человек, функции специалиста по охране труда может исполнять сам или другой уполномоченный им работник либо организация оказывающая услуги в области охраны труда, привлекаемые работодателем по гражданско-правовому догово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108000" y="692280"/>
            <a:ext cx="92520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Медицинские осмотры работников образовательных организаций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97080" y="907920"/>
            <a:ext cx="9721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Нормативные правовые акты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Трудовой кодекс РФ ст.214; ст.22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Приказ от 28.01.2021 № 29н «Об утверждении порядка проведения обязательных предварительных и периодических мед. осмотров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Локальные нормативные акты работодател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Приказ руководителя об организации прохождения обязательных медицинских осмот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Направления на предварительный (периодический) медицинский осмот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Журнал учета направл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Список контингентов работников, подлежащих периодическим медицинским осмотр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Поимённый список лиц, подлежащих периодическим медицинским осмотр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Договор с медицинской организацией на проведение медицинских осмотров работ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Медицинское заключение по результатам медицинского осмотр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Паспорт здоровья работ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. 25 Работы в организациях, деятельность которых связана с воспитанием и обучением де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сихиатрические освидетельствования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-252720" y="549360"/>
            <a:ext cx="939636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Нормативные правовые ак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ст. 65 № 323-ФЗ «Об основах охраны здоровья граждан в РФ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ст. 220 Трудового кодекса РФ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Приказ Минздрава РФ от 20.05.2022 №342н «Об утверждении порядка прохождения обязательного психиатрического освидетельствования работниками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Локальные нормативные акты работодате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Приказ руководителя об организации прохождения психиатрического освидетельств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Направления на психиатическое освидетельств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Журнал учета направл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4. Список контингентов работников, подлежащих психиатрическому освидетельствова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. Поимённый список лиц, подлежащих психиатрическому освидетельствован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6. Договор с медицинской организацией на проведение психиатрического освидетельств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7. Медицинское заключение по результатам освидетельств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25200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В соответствии  с  приложением №2 Порядка… работники, осуществляющие </a:t>
            </a: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следующие виды деятельности подлежат психиатрическому освидетельствованию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24000" y="1052640"/>
            <a:ext cx="9792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деятельность, связанная с управлением транспортными средств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педагогическая деятельность в организациях, осуществляющих образовательную деятель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деятельность по присмотру и уходу за детьми 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мплекс мер по организации питания и хозяйственно-бытового обслуживания детей, обеспечению соблюдения ими личной гигиены и режима дня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деятельность в сфере электроэнергетики и теплоснабж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деятельность, непосредственно связанная с обслуживанием оборудования, работающего под давлением более 0,07 МПа подлежащего учету в Ростехнадзоре (операторы котельных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видетельствование работника проводится в обязательном порядке на основании выданного работодателем направления на освидетельство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Периодичность освидетельствования не установлена</a:t>
            </a:r>
            <a:r>
              <a:rPr b="0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вторное прохождение освидетельствования работником не требуется в случае, если работник поступает на работу по виду деятельности, по которому ранее проходил освидетельствование (не позднее двух лет) и по состоянию психического здоровья был пригоден к выполнению указанного вида дея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98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Освидетельствование включает: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252720" y="907920"/>
            <a:ext cx="9396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прием (осмотр, консультация) врача психиатр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сбор жалоб и анамнеза в психиатр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психопатологическое обследо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проведении освидетельствования могут учитываться результаты ранее проведенных (не позднее одного года) медицинских осмотров, освидетельствований, диспансеризации работника, подтвержденных медицинскими докумен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рачебная комиссия по результатам освидетельствования выносит решение о признании работника пригодным или непригодным вследствие психического расстройства (при наличии медицинских психиатрических противопоказаний) к выполнению вида (видов) деятельности, указанного в направлении на освидетельство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окончании прохождения работником освидетельствования медицинской организацией оформляется медицинское заклю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Гигиеническая подготовка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-252720" y="549000"/>
            <a:ext cx="95043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 соответствии со ст. 1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и 36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№ 52-ФЗ (ред. от 03.08.2018) «О санитарно-эпидемиологическом благополучии населения", Приказа Минздрава РФ от 29.06.2000 г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№ 229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О профессиональной гигиенической подготовке и аттестации должностных лиц и работников организаций»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игиеническое воспитание и обучение граждан осуществляются при профессиональной гигиенической подготовке и аттестации должностных лиц и работников организаций, деятельность которых связана с производством, хранением, транспортировкой и реализацией пищевых продуктов и питьевой воды, воспитанием и обучением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ля работников образовательных организаций профессиональная гигиеническая подготовка проводится при приеме на работу и в дальнейшем с периодичностью 1 раз в 2 г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 связи с тем, что профессиональная гигиеническая подготовка является профессиональным обучением  работников, которое является условием выполнения ими определенного вида деятельности (работа с детьми), то в соответствии с ч. 4 ст. 196 ТК РФ; ст. 11 Федерального закона от 30.03.1999 №52-ФЗ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обязанность по обучению работников и оплате обучения лежит на работодателе.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-252720" y="0"/>
            <a:ext cx="939636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Ст. 370 Трудового кодекса РФ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о профессиональных союзов на осуществление контроля за соблюдением трудового законодательств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фессиональные союзы имеют право на осуществление контроля за соблюдением работодателями и их представителями трудового законодательства и иных нормативных правовых актов, содержащих нормы трудового права, выполнением ими условий коллективных договоров, согла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Ст. 4. Задачи профсоюза. Устава профессонального союза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3 Контроль за соблюдением работодателями трудового законодательства и иных НПА содержащих нормы трудового пра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.5. Контроль за обеспечением здоровых и безопасных условий труда в организациях сферы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На уровне первичных профсоюзных организаций контролируют условия и охрану труд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председатели первичных профсоюзных организ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внештатные технические инспекторы тру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уполномоченные по охране труда профсоюзных комитетов образовательных организаци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комиссии по охране труда образовательных организац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47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Диспансеризация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252720" y="404640"/>
            <a:ext cx="97203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Нормативные правовые докум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Трудовой кодекс РФ статья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85.1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 Приказ Минздрава России от 27 апреля 2021 г. №404н "Об утверждении Порядка проведения профилактического медицинского осмотра и диспансеризации определенных групп взрослого населения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оответствии со статьей 185.1 Трудового кодекса РФ работники при прохождении диспансеризации имеют право на освобождение от работы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на один рабочий день один раз в три года с сохранением за ними места работы (должности) и среднего заработ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Работники, достигшие возраста сорока лет при прохождении диспансеризации имеют право на освобождение от работы на один рабочий день один раз в год с сохранением за ними места работы (должности) и среднего заработк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ботники, не достигшие возраста, дающего право на назначение пенсии по старости, в том числе досрочно, в течение пяти лет до наступления такого возраста и работники, являющиеся пенсионерами, при прохождении диспансеризации имеют право на освобождение от работы </a:t>
            </a: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на два рабочих дня один раз в год с сохранением за ними места работы (должности) и среднего заработка.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Рассмотрение и учёт микротравм работников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24000" y="475920"/>
            <a:ext cx="9468000" cy="62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Нормативные правовые докум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Трудовой кодекс РФ ст. 214, ст. 2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Приказ Минтруда РФ от 15.09. 2021 №632н «Рекомендации по учету микроповреждений (микротравм) работников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Локальные нормативные акты работодател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ложение по учету и рассмотрению обстоятельств и причин микроповреждений (микротравм) работник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Справка о рассмотрении причин и обстоятельств, приведших к возникновению микроповреждения (микротравмы) работни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Журнал учета микроповреждений (микротравм) работ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45820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Статья 226. Микроповреждения (микротравмы)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97080" y="333360"/>
            <a:ext cx="9793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 микроповреждениями (микротравмами) понимаются ссадины, кровоподтеки, ушибы мягких тканей, поверхностные раны и другие повреждения, полученные работниками и другими лицами, участвующими в производственной деятельности работодателя, указанными в части второй статьи 227 настоящего Кодекса, при исполнении ими трудовых обязанностей или выполнении какой-либо работы по поручению работодателя (его представителя), а также при осуществлении иных правомерных действий, обусловленных трудовыми отношениями с работодателем либо совершаемых в его интересах,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е повлекшие расстройства здоровья или наступление временной нетрудоспособности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целях предупреждения производственного травматизма и профессиональных заболеваний работодатель самостоятельно осуществляет учет и рассмотрение обстоятельств и причин, приведших к возникновению микроповреждений (микротравм) работни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снованием для регистрации микроповреждения (микротравмы) работника и рассмотрения обстоятельств и причин, приведших к его возникновению, является обращение пострадавшего к своему непосредственному или вышестоящему руководителю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комендации по учету микроповреждений (микротравм) работников утверждены Минтрудом РФ (Приказ Минтруда РФ от 15.09. 2021 №632н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Расследование несчастных случаев на производстве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24000" y="764640"/>
            <a:ext cx="9468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Нормативные правовые ак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Трудовой кодекс РФ статьи 226-23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Приказ Минтруда РФ от 20.04.2022 №223н «Об утверждении Положения об особенностях расследования несчастных случаев на производстве в отдельных отраслях и организациях, форм документов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. Федеральный закон от 24.07.1998 № 125-ФЗ "Об обязательном социальном страховании от несчастных случаев на производстве и профессиональных заболеваний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Приказ Минобрнауки РФ от 27.06.2017 № 602 « Об утверждении Порядка расследования и учета несчастных случаев с обучающимися во время пребывания в организации осуществляющей образовательную деятельность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Локальные нормативные акты работодател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Журнал регистрации несчастных случаев на производст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Журнал регистрации несчастных случаев с учащимися (воспитанниками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 Материалы расследования несчастных случаев на производств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Классификаторы необходимые для расследования несчастных случаев на производстве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252720" y="981000"/>
            <a:ext cx="9396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Классификатор видов (типов) несчастных случаев на производ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лассификатор причин несчастных случаев на производ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Классификатор категории несчастного случ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Классификатор по времени суток несчастного случ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лассификатор по времени от начала раб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 Классификатор организаций в соответствии со списачной числен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7. Классификатор по полу пострадавш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8.Классификатор в соответствии с возрастом пострадавшег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8930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 Black"/>
              </a:rPr>
              <a:t>Порядок расследования несчастного случая можно открыть по ссылке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2276280"/>
            <a:ext cx="9144000" cy="38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4568"/>
                </a:solidFill>
                <a:uFillTx/>
                <a:latin typeface="Arial"/>
                <a:hlinkClick r:id="rId1"/>
              </a:rPr>
              <a:t>https://cloud.mail.ru/public/ve8v/xsMXgvNx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Перечень необходимых документов к материалам расследования несчастного случая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опия положения о системе управления охраной труд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опия документов, подтверждающих проведение идентификации опасностей и  оценки уровня рисков на рабочем мест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опия документов, подтверждающих назначение ответственного за осуществление контроля здоровья работник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опия протокола об обучении и проверки знаний требований по охране труда пострадавшего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опия удостоверений  членов комиссии проводивших обучение по охране труд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пия заключительного акта о прохождении медицинского осмотр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пия документов, подтверждающих прохождение психиатрического освидетельствования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опия (выписка) из Журнала регистрации вводного инструктаж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опия (выписка) из Журнала регистрации инструктажа на рабочем месте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опия (выписка) из Журнала регистрации инструктажа на рабочем месте о прохождении стажиров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опии документов, подтверждающих выдачу пострадавшему СИЗ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опия сертификатов, деклараций на СИЗ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опии документов, подтверждающих выдачу смывающих и (или) обезвреживающих средств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опия приказа «О назначении ответственных лиц за состояние и организацию работы по охране труда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опия инструкций по охране труда, по которым пострадавший проходил инструктаж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опия должностной инструкции ответственных лиц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Times New Roman CYR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опия карты специальной оценки условий труда пострадавше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685800" y="1641240"/>
            <a:ext cx="7772400" cy="445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011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148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76508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ФСОЮЗ РАБОТНИК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НАРОДНОГО ОБРАЗОВАНИЯ И НАУКИ РОССИЙСКОЙ ФЕДЕРАЦИИ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181080" y="0"/>
            <a:ext cx="9506160" cy="90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Ст. 370 ТК РФ Профсоюзные инспекторы труда, уполномоченные (доверенные) лица по охране труда имеют право: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252720" y="907920"/>
            <a:ext cx="9396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осуществлять контроль за соблюдением работодателями трудового законодательств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принимать участие в расследовании несчастных случаев на производстве и профессиональных заболеван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защищать права и законные интересы членов профессионального союза по вопросам возмещения вреда, причиненного их здоровью на производств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предъявлять работодателям требования о приостановке работ в случаях непосредственной угрозы жизни и здоровью работник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направлять работодателям представления об устранении выявленных нарушений трудового законодательства и иных НПА, содержащих нормы трудового права, обязательные для рассмотр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осуществлять проверку состояния условий и охраны труда, выполнения обязательств работодателей, предусмотренных коллективными договорами и соглашени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58200"/>
            <a:ext cx="777240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252720" y="188640"/>
            <a:ext cx="939636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Уполномоченное (доверенное) лицо по охране тру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бирается на общем профсоюзном собрании на срок полномочий избранного комитета профсоюз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олномоченный должен быть обучен  по охране труда по программам: а) Общие вопросы охраны труда…  б) Безопасные методы и приёмы выполнения работ…. и по программе оказания первой помощ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воей деятельности уполномоченный руководствуется Положением об уполномоченном (доверенном) лице по охране труда профсоюзного комитета образовательной организации (утверждено постановлением Исполкома Профсоюза от 28.11.2022 № 14-16,  размещен на сайте Обкома профсоюза  www.vobkom.ru. в рубрике «Охрана труда»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положении об уполномоченном (доверенном) лице изложены обязанности, права и гарантии деятельности уполномочен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полномоченным не может быть избран работник, не являющийся членом Профсоюза или занимающий должность, согласно которой несет ответственность за состояние условий и охраны труда организ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вязи с изменившемся законодательством по охране труда, в Положение  об уполномоченном … внесены изменения касающиеся вопросов  контроля  и участия уполномоченного в ОПР,  в рассмотрении причин микротрав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полномоченному предлагается по результатам контроля  направлять работодателю Предложения по устранению выявленных нарушений требований охраны труда (в прежнем Положении Представления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Arial"/>
              </a:rPr>
              <a:t>Комиссии по охране труда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324360" y="404640"/>
            <a:ext cx="96490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о инициативе работодателя и (или) по инициативе профессионального союза создаются комиссии по охране труд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состав комиссии входят представители работодателя и представители выборного органа первичной профсоюзной орган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дачами комиссии по охране труда явля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а программы совместных действий работодателя, профессионального союза по обеспечению безопасных условий труда и соблюдению требований охраны тру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ие в разработке локальных нормативных актов работодателя по охране тру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ие в организации контроля и проведении проверок за состоянием условий труда на рабочих местах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ие в проведении специальной оценки условий труда и оценке профессиональных риск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готовка и представление работодателю соответствующих предложений по решению проблем охраны труда на основе анализа состояния условий и охраны труда, производственного травматизма и профессиональной заболеваем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ие в информировании работников о состоянии условий и охраны тру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6:07:53Z</dcterms:created>
  <dc:creator>Воропаев Александр Петрович</dc:creator>
  <dc:description/>
  <dc:language>en-US</dc:language>
  <cp:lastModifiedBy>User</cp:lastModifiedBy>
  <cp:lastPrinted>2014-12-02T13:19:54Z</cp:lastPrinted>
  <dcterms:modified xsi:type="dcterms:W3CDTF">2024-11-20T12:57:00Z</dcterms:modified>
  <cp:revision>1293</cp:revision>
  <dc:subject>Презентация для конференции обкома</dc:subject>
  <dc:title>Профсоюзная организация студентов Воронежского государственного технического университета Профсоюза работников народного образования и науки РФ</dc:title>
</cp:coreProperties>
</file>